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524-3D19-4D86-B922-DB411A3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9AF-C617-4DC6-A23E-CEC827A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535-9495-49FA-BD02-D54C352E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F04-127D-4403-B2BD-75911D3D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26DF-0DED-404B-AD4B-BF765C97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2A71-649D-4F74-A972-961C5EAA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D65C-BBF8-419E-BEB7-D3F03F4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7A08-0925-400B-810D-5F81E79A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CBE-37D5-4808-A0EE-FBE7108F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C62-8665-4384-A5F8-EE5D79A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F703-5493-4AF9-BFF3-B9257B2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B54-6719-4CAB-97A1-5AB5E05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EE0-2319-4541-95ED-56CCDE9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F96F-ED3C-47BE-BC96-3D47718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CF8B-886A-48A1-8384-AF06561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B9E3-FDD1-469B-B358-B1F9FF49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A23-2F56-4DF8-8341-79B415BE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A3C-2FA3-414F-99F1-DC006F0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190-F74B-4985-A8C4-4ECABA7F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952-3526-4956-AC55-EE7A511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5DE-351E-4694-89DC-5355833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783-8F5A-4A26-B30D-A2151AB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4D4-4E62-4DF3-B921-7FA6A80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36A-EBDD-4A54-99D2-6BD87B9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453-01F7-4972-A6FD-FC2DB11CD0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2D3-76C0-4231-A7D2-BCA2B85DBB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Alberta</a:t>
            </a:r>
            <a:endParaRPr b="0" lang="en-US" sz="9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356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273400" cy="3958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5103720" cy="4024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2771640" y="3213000"/>
            <a:ext cx="2448000" cy="935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94200" y="549360"/>
            <a:ext cx="5149800" cy="3529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111640" cy="34084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356000" y="2684520"/>
            <a:ext cx="43563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4:04:14Z</dcterms:created>
  <dc:creator>Susanne Müller</dc:creator>
  <dc:description/>
  <dc:language>en-US</dc:language>
  <cp:lastModifiedBy>Susanne Müller</cp:lastModifiedBy>
  <dcterms:modified xsi:type="dcterms:W3CDTF">2009-09-27T14:15:55Z</dcterms:modified>
  <cp:revision>2</cp:revision>
  <dc:subject/>
  <dc:title>Alberta</dc:title>
</cp:coreProperties>
</file>